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F7F5-03B2-410A-A18D-1B70C2BF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0979-D7B3-42A6-A2C3-001F42A0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F25A-C487-4F3C-BB35-0AC28E41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F517-ADE3-4221-A4A0-C43201F6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749B-D86A-4FA9-B444-BDC2140D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3BE-2F89-488F-AB7D-4F4A1FAB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174-78BD-460C-BD9F-E0A11604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807E-B442-40A8-AE46-673EA729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A03-8A88-445A-9A36-A4AC5B29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6E1-9F9F-44A7-A5A7-07F7371C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EFB9-FB5F-4111-B6D8-375CF587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041-5BFC-4290-9537-2F8054BA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AEA5-1922-4B16-8042-50DD82B54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Culture in Russ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The entertainment of Rus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By Carmen Che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30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3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ns 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ter 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e Sk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e Hoc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ns also enj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b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500"/>
                            </p:stCondLst>
                            <p:childTnLst>
                              <p:par>
                                <p:cTn id="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5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8500"/>
                            </p:stCondLst>
                            <p:childTnLst>
                              <p:par>
                                <p:cTn id="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50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cc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♪♫ </a:t>
            </a: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Balle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♪♫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 ballet dancers are famous around the world. Some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a Pavlova (fema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khail Baryshnikov (ma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dolf Nureyev (ma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 Tchaikovsky wr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eeping Beauty Bal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tcracker Suite Bal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12 Overture (celebrated the defeat of France’s invasion in 18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375"/>
                            </p:stCondLst>
                            <p:childTnLst>
                              <p:par>
                                <p:cTn id="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325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40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350"/>
                            </p:stCondLst>
                            <p:childTnLst>
                              <p:par>
                                <p:cTn id="1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025"/>
                            </p:stCondLst>
                            <p:childTnLst>
                              <p:par>
                                <p:cTn id="1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4:10:21Z</dcterms:created>
  <dc:creator> </dc:creator>
  <dc:description/>
  <dc:language>en-US</dc:language>
  <cp:lastModifiedBy> </cp:lastModifiedBy>
  <dcterms:modified xsi:type="dcterms:W3CDTF">2010-12-20T14:14:13Z</dcterms:modified>
  <cp:revision>6</cp:revision>
  <dc:subject/>
  <dc:title>Culture in Russia</dc:title>
</cp:coreProperties>
</file>